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34C-7E1D-4360-B82B-A50139D0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221-1AEC-4F8B-BBD5-600C536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EE21B-D745-4F8A-A3FC-6DF0DFE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758DD-8176-4930-B249-F1A0794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CBDA2-EC6B-4953-B2E1-EA2D70C5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113FA-E9BF-4E20-ADAD-AFE5827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CC9C3-9179-4CCC-819F-D92B42E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3CEBC-2238-4F31-A427-6B65119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73C10-C8AD-4275-AABF-669C275F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3476F-7232-4A5B-A6C0-778B90CB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4CB45-FBF3-4CDC-9F15-EEFB1026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27627-D506-451E-9AF7-347EFE12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9CE-3FCF-4103-A748-507549CB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0389-BE67-4431-B852-17ED1594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00A51-E587-43E1-9C0A-C8492C1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BAC73-388E-4624-85E9-6BCBA4F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8F14C-4484-42E7-991E-8BB4458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CA95-0EE5-4292-AB21-7A8DE2F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534DE-63B7-4255-8B54-D23ABC9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AB9A6-03BA-41F3-A847-40CDE99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66840-18D3-4928-9E5D-5C158EE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74298-6BFC-4C26-B717-C990186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5D76F-924B-407A-8A7B-CD6C233E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CA3-7703-4ECB-91B1-4FD43C1E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0AF30-CF82-44AD-BDB0-132EEF2D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81CD0-4461-4D31-907B-AD0335DE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5C329-7D27-4D15-B2A8-88D33F7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41531-AF52-4FEF-B690-B8FA0613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8FB0C-AFC8-4EC3-9605-A19A092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E92FC-2BED-40DA-893B-BFC96C6F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D757-8221-488E-9B12-AC5EFE2B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6F76-6369-4475-B4BA-B15E112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34706-4E69-47A6-8A6F-25A728F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6B283-91CF-4BE5-A2D6-F89CE13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6E2-6AF4-4FFC-B4F4-B7BF7C61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3DAC1-988F-4DDD-B274-E4B0AF9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44762-59FD-40FC-856A-04645367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6910-0C88-4C82-83CB-06A0BE3A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BD45B-5992-45D2-B9FA-ADA72A4A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97658-ACB4-4F92-8D14-D2C0F9E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51B7E-4CB6-4693-AC23-5205A6F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626E7-67C4-4879-B16D-700C439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68E44-AF11-4CBC-B0BE-7D31FA6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4DBAC-0D78-4797-B368-CF4815F1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579F-3A9D-46EC-B9F6-4DD488D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1A3A-E5BC-4CA2-9D8E-E04E2A60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3E37A-F3AC-4A78-B15E-69692A0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60A7-C3F5-4630-97E2-B9F1973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7C1FB-3EA4-40A3-BCA0-E1E51D6C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E5857-D4FE-464A-B727-FCDF85FC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65DF5-1FDD-4C38-8F67-44D5E951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B8C-BB76-4DE2-A63C-E543068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2B3C-F44A-4196-AEC0-BA50E6E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2FC1-5397-484C-8FF6-9017961A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CBA5-B77C-44A5-B161-4276853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8A8F-4892-43D0-9B13-7DCD7DC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6E3-2190-4589-8BC8-13E212F3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98B5-4AD8-4705-A139-00EF826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73A7-43DC-4260-9CF8-BDB13DB0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7A2-6F5E-487B-A228-2063F7E1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030-DC30-4671-9067-CC6BA84B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4FD-675A-473C-8ACA-8C8B6150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D8A5-8ED7-4E32-92F0-DE48626D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83CD-9F43-404E-B4A0-E9B007BA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AFAE-4808-4E5E-A0C7-7B5E2262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C259-FB71-47BB-A754-6DC287D0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7FA4-1586-48A6-A267-A1D1C62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0B0-9003-4454-8915-9DE22A3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2BB2-2311-453D-8219-4733D2B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B9DBC-3E55-4BC3-B26C-ADE7633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CAE7-D462-44DC-A734-1E1874B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BA40-B04B-4D67-B27A-0DA8EEF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6A7B-DBB6-4E06-9B67-CA83CFC5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3B3E-4830-4FC0-9E30-68D5A7E9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AFC0-FC87-4785-9C66-951E040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53BA-5B58-4D73-B3DC-925C09DD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E398-F85A-4A8F-A48F-98693704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C258-3A77-4187-83F7-49F90D3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6CD-3555-4DA0-8871-AC32118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1223-A03B-418C-B715-B5362F2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0DA5-C0ED-4D2C-BB33-6CCBFDD6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B1B0-8088-4A9D-A1B0-721B51D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F651-04FF-4C2F-9B4C-974F2B6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E6AE-AC63-4DE6-940C-3EEF68C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26F0-673E-4741-9314-C9BEA98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731F-FCB0-481E-A83C-A837E03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75A6-65C4-4D80-AC95-62ECAC31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166A-87D4-4F30-A5BB-C3BEFBBD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87AA9-0ACA-423F-A26F-0D3C473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D54-5AD1-4D7B-BB8E-6B3D3ED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35593-C2E4-4615-9AE6-B5336D6B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93720-3C29-47C0-BBFE-04002EA0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45437-FCAA-46C8-ACB2-42BCE73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714B0-436D-47B2-BFEE-867E5B0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45989-5FE5-49E8-9EB0-7BB9D11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CA328-6D8A-4713-9846-BA5F0C3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FD6B4-CDCC-4EDA-9AD4-DCD19D7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792D4-B522-443C-82DD-0B64441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52379-DFA8-4DE6-9142-E9E9893F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BF76B-70DB-4A60-B04D-B758274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C6B-BAA8-479D-9DB0-E95756DE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28D48-99B7-4C46-9275-9F2FEEB6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6D66-7177-4F12-96B5-B4AD02C1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3538-49DA-4A0E-BC9E-D4C2D93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6A88-8A86-4381-80D4-B09F015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6BED-0176-4464-907B-45FA16E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C09A9-FD7D-4749-ACF2-066F8B0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3936-055D-4F95-9650-A53AA0AE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15BE-4AE2-46CD-AB41-DE3AD75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E502-5874-4D51-A58D-F8B7A1F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6159-3613-4ED6-A983-642D194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B53-6981-4C1B-A303-367A1DD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34353-C5F0-4351-9D4F-78BF9E6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C724-D37C-4A0D-AB59-4A656069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95D94-0D62-4B2F-9EDC-CDAE2231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9EC1-41BE-4A25-BB33-8FEADA05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EAEF-2ABE-420F-8F82-D5F4485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60E09-1747-4E67-A708-E58FDA01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23760-B0C3-4C8C-81AA-FDDE471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0EFE-BF44-4C39-8E6B-02331E0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E9E2-453B-46F1-BBCB-BC261A87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1E39D-FDF3-4003-9183-AD15C9D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645-DB8E-4FBA-A818-4931C43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9BB7D-E8A3-4759-B33F-3B654CF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F676-47B9-4436-A17A-F50946F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19EB-80F9-40B4-84C4-3C06984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D063-2CFF-444E-8DA7-F67AF942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4C83-E004-4551-8773-D3450F83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3F45-398B-46D1-ADBB-47FC25FE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F9AA-7FB3-45F6-87D5-3F0E823B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64F65-B880-4DDA-964D-765C887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1E7C-E3AF-4CA7-83DD-A39CAD5C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0C4B-6BCB-486E-8690-F716C64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4BB-0181-41AA-9C3C-8EC90FD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B417-0588-4544-9F00-75362C7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543F-A61D-454F-88A9-6C55BBF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C347-51AC-4471-85EE-48522BD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F96D-F981-4D1B-B357-DB22BA16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D7DD-3C2B-4304-A94A-083F3CD0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2C3F-BB99-4035-84E7-0C409A1D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9A62F-9CDA-4402-A70C-E20717D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80E54-48B2-4E45-85E1-BAFEDE5B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87227-BCC9-426A-8477-014FC80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53718-7C3F-42BE-870F-E9F7ED65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FC4-687C-4672-B789-7B27DD302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DCFF-2091-4F6A-87F5-C3A754EA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E75-304E-4468-B619-C09A63574CE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2F18-5D8C-40AA-B761-F76EC3848C9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EDA-B52B-4980-AEF3-2706D4617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881E-EDA5-43CB-9D88-99B12B21EB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C0DD-FC28-4515-B4AF-C64FB7A298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3E4-E67D-4E4D-9A96-8F4518FC5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2E69-1608-4F40-87BF-8C8A1BBA3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BF4-7F33-4E81-8854-D98BB3BD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10D-1911-458D-BEC8-3798B6AC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2FAE-1F02-4D77-A1F0-85407F63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acrifi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5ffff"/>
                </a:solidFill>
                <a:latin typeface="Tahoma"/>
              </a:rPr>
              <a:t>What were people called when they followed Satan?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zom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ath 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wiz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 (yes even bo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chcraft was one of the greates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gi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pres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 build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was against the law to not go to chur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rrect answer i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people were accused of witchcraft becaus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had their shirts un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never had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were under the age of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happened to the people who were accused of witchcraf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sent out of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got 1,0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had to work 4 days for som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punishment given for being a witch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they were sent to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they were put on a sh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none of the abov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1:28:46Z</dcterms:created>
  <dc:creator>kat11088</dc:creator>
  <dc:description/>
  <dc:language>en-US</dc:language>
  <cp:lastModifiedBy>Mr A</cp:lastModifiedBy>
  <dcterms:modified xsi:type="dcterms:W3CDTF">2008-10-15T13:52:31Z</dcterms:modified>
  <cp:revision>3</cp:revision>
  <dc:subject/>
  <dc:title>The Sacrifice </dc:title>
</cp:coreProperties>
</file>